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gif" ContentType="image/gif"/>
  <Override PartName="/ppt/media/image8.wmf" ContentType="image/x-wmf"/>
  <Override PartName="/ppt/media/image6.jpeg" ContentType="image/jpeg"/>
  <Override PartName="/ppt/media/image7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4CE9-A8BA-4A66-98B3-CC41642B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7639-ACC6-416A-A6CB-0B740815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9CDC-571C-4E50-86FF-0939E7C5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C034-DF05-4342-9BE7-969A69A9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5B9A-B6D6-496C-BB52-7F273228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D81C-554B-46DB-9FE8-BE892FBA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32B8-5736-484D-B1C8-C6B6C58E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5903-364D-4BF9-825A-2050BCEF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D37D-8246-4FAA-854A-17A804FC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89BF-1D30-419C-9E91-CEBA6904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FF08-D44B-4B5E-8347-823EDA70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7D3B-A739-454D-98F5-20D31584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28AE-6496-4FB5-8C8B-99725C76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D324-E5A9-4E45-92C0-F66FD070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A28D-B47C-4689-8668-26F7B5C0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48B1-716D-4790-9577-F6D35A85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6D6B-094C-4E08-A9D9-64DAA170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CA1C-CC86-4E6C-9B58-EB7A4103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4A7C0-B97D-4264-899A-CF695CAD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A917-4653-43F4-A8EB-61EBADE5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3D1C-5511-4751-B60E-785F3C14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803E-ED3C-47E8-BC9C-E2FCE9A3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ED0B-1101-434D-8A59-587F24F7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A185-7488-4555-A0F4-67AAD59B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F605-56F1-42F1-8017-6E35F4E66D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C01C-FFA0-48E5-AD7A-81EB94B35F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80880"/>
            <a:ext cx="8153640" cy="2743200"/>
          </a:xfrm>
          <a:prstGeom prst="rect">
            <a:avLst/>
          </a:prstGeom>
          <a:solidFill>
            <a:srgbClr val="0099cc"/>
          </a:solidFill>
          <a:ln w="7632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"/>
              </a:rPr>
              <a:t>THINGS GOOD READERS 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8280" y="3581280"/>
            <a:ext cx="4038840" cy="2687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48320" y="2590560"/>
            <a:ext cx="4038480" cy="289548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Look at the cover and tit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Look at some of the pictures and read some of the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95680" cy="1143000"/>
          </a:xfrm>
          <a:prstGeom prst="rect">
            <a:avLst/>
          </a:prstGeom>
          <a:solidFill>
            <a:srgbClr val="ffcc00"/>
          </a:solidFill>
          <a:ln w="57240">
            <a:solidFill>
              <a:srgbClr val="00051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14"/>
                </a:solidFill>
                <a:latin typeface="Garamond"/>
              </a:rPr>
              <a:t>P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518184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QUES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666520"/>
            <a:ext cx="3886200" cy="3459240"/>
          </a:xfrm>
          <a:prstGeom prst="rect">
            <a:avLst/>
          </a:prstGeom>
          <a:noFill/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Ask who, what, where, when, why, and how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Decide if what you’ve read makes se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29200" y="2620800"/>
            <a:ext cx="33526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PREDI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Wonder about what will happen nex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Make guesses and read to see if your predictions are correc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886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556236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514"/>
                </a:solidFill>
                <a:latin typeface="Garamond"/>
              </a:rPr>
              <a:t>INFER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3886200" cy="3992760"/>
          </a:xfrm>
          <a:prstGeom prst="rect">
            <a:avLst/>
          </a:prstGeom>
          <a:noFill/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Imagine the detai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Use the words that you have read to help determine what the author means (read between the lin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2819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01992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514"/>
                </a:solidFill>
                <a:latin typeface="Garamond"/>
              </a:rPr>
              <a:t>CONNEC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Relate what you have read to what you know and to your thoughts, experiences, and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ompare what you have read to other texts and to the world around 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7640" y="264312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434340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FE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191120"/>
          </a:xfrm>
          <a:prstGeom prst="rect">
            <a:avLst/>
          </a:prstGeom>
          <a:noFill/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Much of the meaning we get from a piece of text comes from the emotions we feel when we read 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The stronger the connection we make to the text, the stronger our feelings are toward 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58000" y="3581280"/>
            <a:ext cx="18860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579132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SUMMARIZ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718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raw your own conclusions and connect the detai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Use graphic organize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410080" cy="11430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EVALU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0" y="1905120"/>
            <a:ext cx="4038480" cy="4525920"/>
          </a:xfrm>
          <a:prstGeom prst="rect">
            <a:avLst/>
          </a:prstGeom>
          <a:noFill/>
          <a:ln w="76320">
            <a:solidFill>
              <a:srgbClr val="000514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Think about what you have re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sk yourself what you have learn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sk yourself if it was important to you.  Think about why or why no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sk yourself if you liked what you read.  Think about why or why no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819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9:57:10Z</dcterms:created>
  <dc:creator>nbdoe</dc:creator>
  <dc:description/>
  <dc:language>en-US</dc:language>
  <cp:lastModifiedBy>nbdoe</cp:lastModifiedBy>
  <dcterms:modified xsi:type="dcterms:W3CDTF">2006-12-06T18:52:12Z</dcterms:modified>
  <cp:revision>3</cp:revision>
  <dc:subject/>
  <dc:title>Slide 1</dc:title>
</cp:coreProperties>
</file>